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2EC-FCCB-4F45-B15C-30ECFA3E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6AA-770B-447E-8B17-065C7C0F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581F-1984-4B89-B9AD-A49F4470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940-B455-42DE-9C38-3D13C5D5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F8D8-BABF-49C1-85A0-BF53589B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8B3A-1B5C-483F-B37D-AABB90F9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F858-3685-40BF-B971-98C56349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C82B-ABE2-450E-A140-9A1744B0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97D6-47D3-455B-8DC6-CBF688DC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AD49-42E3-4F71-AA0C-11A2BBE1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6D60-ED9E-4D92-94E1-CC0C3852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4F40-4BC3-44F4-A45F-72705867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058A-5A8C-41FE-A1F8-FBD4D295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5FEE-34D2-4CE1-8D0C-16AA6D8C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D3A7-2CB5-42B7-87FE-E7892D5B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5FCE-E4AD-47A6-B828-390BCF69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CC4F-EE56-4782-8CAE-96CC7A74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24D9-891D-45DA-AE03-D529A73F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AEB6-495B-4665-9460-BB569640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9716-86D9-45F3-BBC6-E7F33CFA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D49F-4C36-4DA7-9FF2-2E133A48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18CA-8077-49F7-BE8C-108EFFB5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407B-BA65-4DD2-A225-99594D09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FDB5-8E4B-4D9D-9E52-8387681F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0CD3-4A47-4B07-BA80-20C0801F57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FBF5-FE79-430B-859B-C272AEA10E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dexmundi.com/turkey/government%20type.html" TargetMode="External"/><Relationship Id="rId3" Type="http://schemas.openxmlformats.org/officeDocument/2006/relationships/hyperlink" Target="http://www.turk-ay-yildiz.de/turkiye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5715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Eras Bold ITC"/>
              </a:rPr>
              <a:t>Welcome To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6248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Danielle &amp; Gab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s Cit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indexmundi.com/turkey/government type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turk-ay-yildiz.de/turkiye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cia.gov/library/publications/the-world-factbook/geos/tu.htm#Peo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allaboutturkey.com/troy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turizm.net/turkey/tips/storyfood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allaboutturkey.com/mutfak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news.bbc.co.uk/2/hi/uk_news/england/7871826.s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7848720" cy="1295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The Lan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urkey is located between the continents of Asia, Africa and Europ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borders the Black Sea and the Mediterranean Se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ize of Turkey is slightly larger than Tex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regions are divided into the Black Sea &amp; the Mediterranean regions, having different landform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Lan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rain: high central plateau; narrow coastal plai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urkey is geographically part of the Alpine belt; it contains many mountain rang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tural resources include coal, iron ore, gold, limestone, marble, pumice, &amp; cla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urkey has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Verdana"/>
              </a:rPr>
              <a:t>hot, dry summer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600" spc="-1" strike="noStrike" u="sng">
                <a:solidFill>
                  <a:srgbClr val="336699"/>
                </a:solidFill>
                <a:uFillTx/>
                <a:latin typeface="Verdana"/>
              </a:rPr>
              <a:t>mild, wet wint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editerranean region consists of trees like pines, oaks, cedars, &amp; chestnuts.  Other areas are treeless, with limited gr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3962520" cy="2210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09480" y="2666880"/>
            <a:ext cx="3810240" cy="22100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mate/ Vege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overn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fe expectancy is about 70 years ol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ype of government: Republican Parliamentary Democrac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President of the Republic is Abdullah Gu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pulatio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1,892,808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867280" y="3886200"/>
            <a:ext cx="27432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istory &amp; Current Ev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66ff"/>
                </a:solidFill>
                <a:latin typeface="Verdana"/>
              </a:rPr>
              <a:t>                                      </a:t>
            </a:r>
            <a:r>
              <a:rPr b="1" lang="en-US" sz="1900" spc="-1" strike="noStrike" u="sng">
                <a:solidFill>
                  <a:srgbClr val="cc66ff"/>
                </a:solidFill>
                <a:uFillTx/>
                <a:latin typeface="Verdana"/>
              </a:rPr>
              <a:t>His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 WWI, Turkey sided with Germany &amp; ended up losing territory as a result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 first president, Kemal Ataturk, secularized the Turkish society. He reduced Islam’s dominant role, replacing Arabic with the Latin alphabet for writing the Turkish language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Verdana"/>
              </a:rPr>
              <a:t>	</a:t>
            </a:r>
            <a:r>
              <a:rPr b="1" lang="en-US" sz="2400" spc="-1" strike="noStrike" u="sng">
                <a:solidFill>
                  <a:srgbClr val="33cc33"/>
                </a:solidFill>
                <a:uFillTx/>
                <a:latin typeface="Verdana"/>
              </a:rPr>
              <a:t>~Current Event~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urkish Producer, Bernard Matthews, wants to make wind turbines to create energy. His company wants to produce 10% of its own electricity, but the local people opposed the idea because of the size &amp; location of the turbines. Matthews eventually wants to place 2 in Engla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conom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Turkey is an upper middle-income econom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Major agricultural products are wheat, tobacco, cotton, sugar &amp; olive oi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Verdana"/>
              </a:rPr>
              <a:t>Important industries: steel, petroleum, iron, cars &amp; processed foods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Verdana"/>
              </a:rPr>
              <a:t>Major exports&gt;&gt; Articles of Apparel and Clothing Accessories, Pearls and Precious Ston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Imports&gt;&gt; Machinery and Mechanical Appliances, Optical and Photographic Instruments, Electrical Machinery and Equipment, Pharmaceutical Products, Aircraft Spacecraft and Part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Verdana"/>
              </a:rPr>
              <a:t>87% of adults (age 15+) can read &amp; wri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Currency in Turkey: coin &amp; paper money, called Lir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20040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181480" y="5334120"/>
            <a:ext cx="35816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ultu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Traditional clothing          Language spoken: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Turkish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73200" y="2438280"/>
            <a:ext cx="2500200" cy="3657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733920" y="2438280"/>
            <a:ext cx="472428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Foods: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Lamb is the staple of the Turkish kitchen. Black Sea region eats fish &amp; rice. Baklava is a popular des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Religions practiced: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99% of the population is Muslim. 1% is Christian &amp; Jew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Century Gothic"/>
              </a:rPr>
              <a:t>Architecture: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 The tombs are vault-l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he 3 types of Mosques are single dome, subline, and ti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Many old buildings are being converted into hotels &amp; restaur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laces to Vis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Verdana"/>
              </a:rPr>
              <a:t>The Aegean Coa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e archaeological sites, beautiful beaches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reat scenery, and a host of towns are excellent destin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743200"/>
            <a:ext cx="716292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Verdana"/>
              </a:rPr>
              <a:t>Cappado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ystical, rock chimney dwellings, and man-made cave based cities in Eastern Tur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ff"/>
                </a:solidFill>
                <a:latin typeface="Verdana"/>
              </a:rPr>
              <a:t>Ephes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ne of the best archaeological sites in the world, Ephesus is well p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638680" y="4495680"/>
            <a:ext cx="33530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7:29:52Z</dcterms:created>
  <dc:creator>daniellenaikins</dc:creator>
  <dc:description/>
  <dc:language>en-US</dc:language>
  <cp:lastModifiedBy>daniellenaikins</cp:lastModifiedBy>
  <dcterms:modified xsi:type="dcterms:W3CDTF">2009-02-19T17:44:49Z</dcterms:modified>
  <cp:revision>12</cp:revision>
  <dc:subject/>
  <dc:title>Welcome To</dc:title>
</cp:coreProperties>
</file>